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3AF-9AE1-410B-AF66-E4178712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046-DE08-432A-90C4-604FB0E7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FDE11-4713-45BA-8195-D0190B1C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B280D-1286-4CAA-940A-AA5FE7D0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23537-57EA-455D-B20C-9FEC7BF4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6E1F0-BFF8-4B41-9FFA-3766AE1E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963ED-F0D1-44D1-93A9-55C3430E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C428F-80FE-427F-A2EF-7AA4835C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6BC1C-1BDD-4FD4-B243-013B5FA0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EE117-193F-4E9A-B691-F02D1BA5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91059-242B-4C6A-B92C-86AEE3AE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8B06B-BC59-4103-B95A-1C95C87A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3D5-30F3-46D7-9806-63956545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918D9-3665-4EB4-9A7F-886EF98F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2B16E-1A70-4BDC-B0DF-BB2B4735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860B1-7B30-45CA-B4EB-23B4C07A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BCC79-F9E8-407F-81E7-A55ED878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1C540-7A8B-46BE-84E0-8297AD6C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0055E-8231-4A56-A026-541585E9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E824B-2E7A-4CB9-95BA-3825B946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5890F-E8ED-4437-B830-1393F144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00188-D5E9-4C39-AA04-C86CDB72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F1555-6C3C-44FD-92A8-EC2F177F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6EF-7CB9-489E-B668-72B6FBCD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E1A55-7087-4556-9BB4-EAC6B916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F399A-35DA-4BC0-A990-DAD9B3FB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E3FCA-19FA-42AD-B272-AC6B9FAF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553B5-4A5C-4A82-B56E-ADE8DE13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6CDE2-907C-4F75-BCE8-3AC8F8BF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80E93-1889-44B5-8EEE-90725EE4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94448-C5F9-4C3F-A256-04DB7D16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1C695-5107-4B2C-A789-7AF10E57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D4150-C54B-4928-90E9-4D8DB4CA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9D207-4229-4840-BF7E-37567381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0A4A-BACB-4848-A898-29432DCD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9E4EF-37F9-4334-BBBA-FF699D93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ED449-FEC8-41C9-800D-F2523267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6218E-2F42-451D-AFE2-6B049D0C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FB3FD-BCD7-46B5-BA1A-2A4C8C12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BB859-20B5-4310-BB8F-61B2E094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F9C57-5153-4E86-94CF-B593107C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114AD-54CA-4123-BC83-24A6FED0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27ACB-4E2C-4C41-9B86-153973DC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476C7-D2B7-459A-96A4-D13BDC20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5653C-1ECB-4E44-969C-11860FC0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6A1C-5448-4AFE-AB72-4CCBC43E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B08ED-4724-455D-81EC-E8CEAC8E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38952-531D-4951-8B62-1D44AC7F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F0913-CE6C-4BAE-ABBF-DDA424E0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4547F-BAAD-4437-A92C-298296A0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69DA9-12A3-42C1-B373-A2DF30DF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86568-8D1F-422F-BA83-32B6CB63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655A4-D0A4-4222-88F3-1AD7A172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6CBED-7EDE-48BE-8DD1-3C1D14EC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BFDD0-4180-4B39-8127-2547138F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D79DD5-7FAF-4A0C-9CDB-7FF2225A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BCA3-2EED-47AE-8483-45E0F117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4D4E8-C546-4F0E-AEF6-B988BE76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2B35F-1682-45F9-9310-DC751B20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1C660-5590-43A2-B427-AA462F54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D5341-DF19-45C2-90BA-FD3F6DC9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8FEC94-6016-4B24-8EC9-6E98B242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81952-81BA-48E8-AB10-A7B38BF4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EA7BF-9CAF-4FBF-8A24-88D32527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D3B95-3921-44C7-A2F1-1D21B01D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990B8-FA24-4868-859D-1A05DFD9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D749F-1892-4B66-AEB1-24FB642A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C730-3BEB-490D-9933-50EF031A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7A08B-D9E3-497D-9CD9-D3F9A525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FA682-CFEE-4B25-9CC0-A9DB3CAB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3F26D-FD97-4DE0-80CA-4D38811F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3F049-D178-4559-896F-D71991C7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84EE4E-2476-4441-87CA-F5955541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6F3A5-B52E-4975-81D7-C36AA8A8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D7D11-0DB6-40F9-99E5-35CC5B72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69F52-FDA7-4BB8-9B24-0F6A51F0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FE7F0-29C3-45A4-82A4-BB8E3D00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C52F88-9938-4E7B-BBA2-9ADCF2F9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D8F5-D724-4084-902C-530A20E7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2CC97B-F26F-42AA-BCE6-38FD9A90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232C8-2592-4C01-BFE8-7592B282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21BCA-DD85-496B-9AD3-A5EA43DC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7104B1-E749-48DA-8E6F-C4B6C35F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2FB8D8-1131-44ED-A304-90F0E195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4D4C3F-F884-4C7E-A8EE-7EEF2BF6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69A91-E862-4F69-9D1E-89E1D677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56DCD-14AB-42A6-8771-9FC6776F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07C6B-2ADD-4651-92E2-DF50E3AB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A99107-DC72-4DB9-8EC7-5C49CB87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2D22-DD8C-4C52-AC3D-A2DDD39C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70B6C-71A3-44B2-99ED-6233C446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F0738A-E0AA-42DB-A8A5-68428719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48EB58-FA5E-43A8-81E5-C656620F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08B690-F2AA-494B-B050-C6399BED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E948D-01A5-4A49-82DA-AC9C396B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0BF1B3-1DD1-4002-8B53-66578E07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7A2F13-87ED-4C07-91E1-05BA3E33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42D80C-1500-4244-AEE9-A82FA4F4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4D99F7-0255-43F8-8C7C-F5209069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9D9EC-A302-427D-9541-59B5F1FD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1092-2073-4EB4-9BAC-4F81169A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364C00-2515-4FB6-8357-F8D43060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F060BA-2034-4A5E-AE55-12D9D33C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95588B-9BEE-45AD-B523-32DC51ED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11F09-DDFB-48CC-8CC5-568C1CCF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AE96A-0234-4841-B7C5-0005BEE9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DB2AF1-3162-4DE5-9A62-D69F0B85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EEA806-9062-4D3D-A792-02C48A67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77D0C9-5D37-4462-AF88-60C19423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036084-A3EC-497D-93B3-50516AFE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A85428-86C0-4B63-A70C-1B44663E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E87-BE18-48A0-A7B6-C5A187D1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8317-A0F9-43FA-9565-48739879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3AE0B2-977E-4560-91E4-F0E32B0D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94D00-0387-412B-B320-AAB8669D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B486AA-85B9-449E-9A01-CF7BB7BD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679D0E-C9E8-4B90-98CB-AC016494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D3054F-509A-4CFE-9800-119B844C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7C88EA-4A7F-433B-9709-CD3EFEDE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DEC74C-CD35-49BC-A19C-A3CDFF8E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E16147-C0BF-478A-8955-CBA57FAE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9FDE36-6292-4937-8F8A-5DFBF71B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C4042F-1C14-44ED-BC04-9CB7C808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DF6D-7919-4D02-8A60-BC2AFAE7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81EE20-1509-47B3-8D08-9FA136D4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815EE7-6675-47D4-9461-228C9EF8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03C2C3-8348-4204-810F-E5FFC9CB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19C54F-0EDE-4C49-902E-55D9CA94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BC91B5-7B77-4BD3-A75C-BFB3B598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B90AC2-953F-402C-AF22-B89B19FC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462F77-1DF4-442C-885C-40AAA650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F708F9-F316-4C61-9F11-67F56577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0A6387-74A1-44A5-9053-F4179A95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FB8789-76D6-4F7F-AD89-C583363C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97A4-45A6-4D5F-9C64-70F30CBB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E90D4E-2BC7-4005-AD58-E49D1404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570804-EF2A-4575-B26F-CAA33FBA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5C2313-1659-489E-AE9F-6804B3A8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9B4CD5-2FFC-4345-8364-DB6C4440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D66E8B-0156-449B-917A-892CF997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30EF39-983C-4218-AA88-15CD6E8C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AD8454-7EAC-4375-A855-3893B2FC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83E546-3C91-4387-8136-44228786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F91A9E-D736-4BDC-BE13-E9B9319C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BBB47D-7551-4BF9-9D32-DC3EE1D5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008D-FFAA-454F-AAF8-36E2087C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37DFA3-8EF4-4CD1-9516-67D5FF34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75EF56-A777-4C08-B272-432040CE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799678-81D9-4C2E-BEFB-857DFDA8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F7B09A-8AAD-4757-A62A-4CDC7B5C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A7A816-8900-4D32-A3BF-D7A6C23C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5AEC27-9A33-400A-84D4-23FDDAF9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5A7B8B-36C6-40EE-BDB2-3B19925F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D5A210-E741-4428-8C8A-7DEE8D01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8C9583-3B7E-42D0-9B53-E6CF01F9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3FB45A-2622-4222-B0A6-56C0ED8A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DA71-D2A7-47CF-BCE7-91FC21E2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932E42-AE01-42D5-9A5A-16FC6CDA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AE2107-832F-440F-B6E6-BED53130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8EBEF2-0F20-413E-93B1-BD700A0B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F3E28B-BDE4-453A-ACFD-D027B668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D87EFA-B1A1-4E1A-BD3D-09A0E9DF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00640C-7560-4915-8B02-222090A2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1A426D-FB90-4D0E-AE9B-92DB1CE7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6D2163-B2E8-4A27-8DC7-A2DF031F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425191-658F-4704-A412-163A92D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EB4B51-EC60-40D9-9B00-C41059E4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5A276-2FE1-4BE0-B322-8179E0A9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48B2CB-CB75-4C3B-A965-4D39109B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9494A4-E5CA-4214-8D18-1BD6C3C4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75AD4F-06E4-43B0-A543-E09D6F3B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35E13-6E92-4AF4-9779-A94B41E0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BA1E4-E816-4A3E-9DF6-25A4B006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8F080-9A61-49BD-8A67-92FF0794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CA07E-0BBC-419D-A486-06C20467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5754-598F-473D-8E88-4A5DDCBC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D43FC-B7B1-45FA-A274-7133A1A1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B2650-29E5-47CD-9F0A-2881B8D5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333D-5164-4A7F-8702-C6DC5A90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71566-C2B5-4926-BAB5-E9887BB0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AC4D8-B2FB-4253-8C9E-A25D6B56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7D07B-6171-4122-9E74-7CE651F6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8E610-1CD3-47FD-BD3E-551C7AAF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D8469-3C23-4DE8-A454-87255F09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C8A49-87C1-4944-910D-A4D021B1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5DFBF-C5D2-4EE2-9BF9-52AB6160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4AA-0BCC-45C3-BC5C-5E32A370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B5F94-EB98-4D4F-AB4F-E8D6B3B6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18ACF-802A-4B09-8579-51BB481A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8E22C-2F01-43D0-A35B-31A9564A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30123-6032-4BF9-9C79-39EDACB0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D2BA3-A84E-4C3F-A367-84C3B343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76DE6-F25C-49BF-BE9F-055A95EA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D4075-440D-4E0C-BC60-DFE3FE35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DB4AD-E128-4DFB-AFA6-FB4AC3A6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F6C56-3F05-4D2B-B43F-C6348936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A3A51-98D0-4F8A-9812-52813800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5E9-F0E3-4B5E-A2CE-D79B6230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4AD41-6C17-48D5-8D46-6E20C1E6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A539A-DAAF-4CAD-9CFF-AE3798EB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77926-8BA9-4B80-912D-68A3394F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4DC03-5881-4DA5-9F11-D950085E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C2B03-B5DF-4F39-98ED-A2AFA0C1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FBF4F-84DC-4423-9857-D530F510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D3877-8368-4FB7-8821-FE714A19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40479-13FF-4126-B37C-DB7F7A29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421D6-B04B-430E-B7D5-DBF4A1F0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5E411-0C05-484D-A5D0-D5EAB2F0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62E-76BA-4CD6-881D-7CBAAF68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D90A3-3561-418A-9DFB-B99E7EFB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4B55E-F32B-4E6D-90A0-44EA331E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324AF-78FF-4FCE-9BEA-C2BCB006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54333-B0DE-4A19-8C85-9608883A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B54C0-566D-4EFB-9FD8-C4E2FEC6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FC927-B56B-4046-9776-A6AA1764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BDBE1-6F23-4814-A25C-44FEA811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500B5-5869-4BDC-A33E-AC1785A0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60A98-ABF6-40CB-AEBD-AE7B9651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7D602-DE5F-44B9-B28D-54CF7674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DE5-7C3F-4862-AE61-CA16996A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EA0D5-C6EE-4353-AF87-50D615C8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97922-FE0E-47B8-B1D3-6E6C341F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E7156-6C5E-46CE-A7EA-9BA2B7D3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F6FE3-E8B1-4D05-9E81-30CE6B0A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E0DE6-3C01-439B-B828-E9E355CE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F65D8-825F-455B-874A-FCF20026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E89F7-E6F9-4111-B5F9-115B3948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E2AD2-74EC-453F-A1C0-C9DCA36B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B54C4-642B-4F72-A586-9250D513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B57F5-3FED-4624-BC8E-E7E15763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BF3-AC45-43C8-A6AE-F32912B3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84FB6-EBB3-4EB0-83F2-BC8198DF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E8695-8C92-47AB-833E-623FE1E9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CBBEE-ECF0-4269-AEB8-5229F16F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B301F-EA00-434E-93D2-34D4B4D7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EC027-1A32-48EC-9622-076BBB78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501DA-7703-49E1-A60A-A21F54D9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B39C3-8263-40E5-BFD4-3EFB6A58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A6825-CDD3-40EC-BF15-9B024C6D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60BB0-ECBE-43CF-A26E-AEEF9875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7714E-E122-46C7-A3C6-37B23E69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2A6-7532-4C16-B851-FA235B5F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556D0-3C4C-436E-9837-387C9319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917C8-0C15-4CDC-91B7-E088DB19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1923B-6D02-4D2B-A88F-CAB5957B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49A6C-1925-474B-A52F-C34485E4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94A83-19AB-40EA-8585-21550AA5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F9433-3A1D-41FB-912A-BEB10EB7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A3EAB-999C-4ADD-8BDD-5037151D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CD4C7-7B97-4DD2-AE77-11FA9E74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9256A-E36A-4E98-80B5-65BACAAE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29529-144C-4DA6-89FE-F77F4BBC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D733-DB36-4856-B6AC-83137AFE7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04B5-B987-484E-AA8C-A04AE13669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EDA5-75D8-42E2-9A02-C0669C0391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71F9-6617-4F94-A670-9D5E12C176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150C-05CE-45EC-A60D-6460980061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8C47-0C62-48D4-B528-448AF700CF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E8B1-6C3B-4C78-8E6A-21C2551C10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7E4F-E03F-4D81-A334-E57769D1A2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2246-CBFF-466C-8C21-7B32FAE54D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BB77-0DC8-441B-9260-A5E1661A62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D4AF-52B9-4E0B-B431-691A193BF7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6296-50F3-4393-97D4-2DF4AF00E5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AA79-36EB-4990-96BA-1C45517808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833C-EEBC-41ED-B13E-C89EA77404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B011-22D6-4031-BA8B-306ABCB572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1262-D56D-45A7-B575-A9EE526715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20D8-AB3E-4864-8CFF-82CC043B27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24A7-8C80-4A55-BC69-A64AA95C9E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C72F-EA6A-4869-808F-2BA3062AE0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7236-8671-4FC4-A5F1-28950CE4E6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712B-C1AE-42FA-BD11-04E2D01D75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DDF0-57D5-4618-BDA1-147EC8E9D3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2CED-553A-45AC-876F-C035DDAF46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AFE0-182B-4E52-AFF1-02D6888A6A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972B-85C4-40D4-B167-0D0704F91F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5684-C1D0-44F6-B1E4-4192A784CF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7648-463D-4A2F-9B1B-687093A639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5530-793D-4666-BF4A-00B4FC793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8882-EA7E-4E21-9511-DC9FEF7579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3F0B-01A2-462C-8F7E-51750B2512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EB14-EF85-4D19-BBF6-55567C608F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AD04-193A-498B-B9B7-642F4F3612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B34D-5D3C-48F3-8C11-D9BF2A9BF4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06EC-2431-4A3E-AE5D-9A1779E112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9DC2-C5F0-4DBB-B138-564AF0956C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5FF0-942C-45D4-97B7-897BB39FBB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7C10-2D96-4EE8-BDB8-516AC344F9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FCDF-E02E-4292-BEE6-423EFEC859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3BAC-656B-4090-BF34-9703697F04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BAD0-2980-406C-BBE4-C2EF5DA9B4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057320" y="3043080"/>
            <a:ext cx="702936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831960" y="785880"/>
            <a:ext cx="7754760" cy="60339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908000" y="450864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857160" y="1071720"/>
            <a:ext cx="7439040" cy="5495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3"/>
          <a:stretch/>
        </p:blipFill>
        <p:spPr>
          <a:xfrm>
            <a:off x="1476360" y="393372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928800" y="762120"/>
            <a:ext cx="7381800" cy="6072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3"/>
          <a:stretch/>
        </p:blipFill>
        <p:spPr>
          <a:xfrm>
            <a:off x="1979640" y="32068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4"/>
          <a:stretch/>
        </p:blipFill>
        <p:spPr>
          <a:xfrm>
            <a:off x="1979640" y="39988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5"/>
          <a:stretch/>
        </p:blipFill>
        <p:spPr>
          <a:xfrm>
            <a:off x="1979640" y="551196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547560" y="1262160"/>
            <a:ext cx="8048880" cy="32385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2" descr=""/>
          <p:cNvPicPr/>
          <p:nvPr/>
        </p:nvPicPr>
        <p:blipFill>
          <a:blip r:embed="rId2"/>
          <a:stretch/>
        </p:blipFill>
        <p:spPr>
          <a:xfrm>
            <a:off x="1333440" y="4776840"/>
            <a:ext cx="5953320" cy="14382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3"/>
          <a:stretch/>
        </p:blipFill>
        <p:spPr>
          <a:xfrm>
            <a:off x="1763640" y="31417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4"/>
          <a:stretch/>
        </p:blipFill>
        <p:spPr>
          <a:xfrm>
            <a:off x="1763640" y="4005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5"/>
          <a:stretch/>
        </p:blipFill>
        <p:spPr>
          <a:xfrm>
            <a:off x="1763640" y="4797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6"/>
          <a:stretch/>
        </p:blipFill>
        <p:spPr>
          <a:xfrm>
            <a:off x="1835280" y="5661000"/>
            <a:ext cx="433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495360" y="838080"/>
            <a:ext cx="81532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347760" y="880920"/>
            <a:ext cx="8448480" cy="59058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2"/>
          <a:stretch/>
        </p:blipFill>
        <p:spPr>
          <a:xfrm>
            <a:off x="2195640" y="1335240"/>
            <a:ext cx="1296720" cy="43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3"/>
          <a:stretch/>
        </p:blipFill>
        <p:spPr>
          <a:xfrm>
            <a:off x="3656160" y="1341360"/>
            <a:ext cx="134748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4"/>
          <a:stretch/>
        </p:blipFill>
        <p:spPr>
          <a:xfrm>
            <a:off x="5148360" y="134136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5"/>
          <a:stretch/>
        </p:blipFill>
        <p:spPr>
          <a:xfrm>
            <a:off x="6443640" y="1341360"/>
            <a:ext cx="165744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6"/>
          <a:stretch/>
        </p:blipFill>
        <p:spPr>
          <a:xfrm>
            <a:off x="2144880" y="2852640"/>
            <a:ext cx="129528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7"/>
          <a:stretch/>
        </p:blipFill>
        <p:spPr>
          <a:xfrm>
            <a:off x="3573360" y="2852640"/>
            <a:ext cx="106992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8"/>
          <a:stretch/>
        </p:blipFill>
        <p:spPr>
          <a:xfrm>
            <a:off x="4788000" y="281160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9"/>
          <a:stretch/>
        </p:blipFill>
        <p:spPr>
          <a:xfrm>
            <a:off x="5888160" y="2822400"/>
            <a:ext cx="865080" cy="4384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10"/>
          <a:stretch/>
        </p:blipFill>
        <p:spPr>
          <a:xfrm>
            <a:off x="7093080" y="283212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2" descr=""/>
          <p:cNvPicPr/>
          <p:nvPr/>
        </p:nvPicPr>
        <p:blipFill>
          <a:blip r:embed="rId11"/>
          <a:stretch/>
        </p:blipFill>
        <p:spPr>
          <a:xfrm>
            <a:off x="3286080" y="5467320"/>
            <a:ext cx="23432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Picture 2" descr=""/>
          <p:cNvPicPr/>
          <p:nvPr/>
        </p:nvPicPr>
        <p:blipFill>
          <a:blip r:embed="rId1"/>
          <a:stretch/>
        </p:blipFill>
        <p:spPr>
          <a:xfrm>
            <a:off x="604800" y="804960"/>
            <a:ext cx="7934400" cy="5981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2" descr=""/>
          <p:cNvPicPr/>
          <p:nvPr/>
        </p:nvPicPr>
        <p:blipFill>
          <a:blip r:embed="rId2"/>
          <a:stretch/>
        </p:blipFill>
        <p:spPr>
          <a:xfrm>
            <a:off x="2571840" y="1324080"/>
            <a:ext cx="2343240" cy="8190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2" descr=""/>
          <p:cNvPicPr/>
          <p:nvPr/>
        </p:nvPicPr>
        <p:blipFill>
          <a:blip r:embed="rId3"/>
          <a:stretch/>
        </p:blipFill>
        <p:spPr>
          <a:xfrm>
            <a:off x="2228760" y="2835360"/>
            <a:ext cx="2343240" cy="8190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2" descr=""/>
          <p:cNvPicPr/>
          <p:nvPr/>
        </p:nvPicPr>
        <p:blipFill>
          <a:blip r:embed="rId4"/>
          <a:stretch/>
        </p:blipFill>
        <p:spPr>
          <a:xfrm>
            <a:off x="3170160" y="4857840"/>
            <a:ext cx="23432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Picture 1" descr=""/>
          <p:cNvPicPr/>
          <p:nvPr/>
        </p:nvPicPr>
        <p:blipFill>
          <a:blip r:embed="rId1"/>
          <a:stretch/>
        </p:blipFill>
        <p:spPr>
          <a:xfrm>
            <a:off x="576360" y="2538360"/>
            <a:ext cx="7991280" cy="1781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2"/>
          <a:stretch/>
        </p:blipFill>
        <p:spPr>
          <a:xfrm>
            <a:off x="4429080" y="3071880"/>
            <a:ext cx="1685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6:19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